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482-FB0C-48DB-9DB2-A6F71C03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36E-6E0B-4083-BF91-C7DAD191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5A5-897A-454B-8719-06F2B748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84A-1C8A-4C05-BA8F-925FB4D0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8A41-B865-4FCC-B81F-25DF94E8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D73A-6074-4F25-9241-940B54D7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50B4-1DE0-4DCC-9B7F-D0E56F32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BAE-455E-40B0-98DF-AFCA67D5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766-D00A-4F3C-A282-5DF7EF5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927-3DBD-4EB7-8165-C4AA52B3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52CB-96FA-4789-8B0E-9E18870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45D-1F56-473C-A885-86D344FB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7255-F0CD-4D02-BB9D-9B2EF46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E223-522B-4BB9-8CBA-087F339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64D4-14FE-4279-B904-AD045E8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54B8-8327-401F-AA5A-FDA52EE2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A793-DB8F-49BD-9F65-CC2D099C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B6F-5960-43CD-83A5-C9AA2C6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1EA-034A-49E6-9BAD-237F4D5E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C4B-CFE5-4F41-82A6-ACEA0FA0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7EC-CB2E-40FE-90FD-BB5625D6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439-77DA-4704-AB23-70CF09BB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7A8-7AA5-461F-A8FF-7C9F1BA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CF5-3C4B-47F3-BFDE-3A3CA252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6A86-8AFE-45D5-AB7D-CEDE8A2F56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DB95-825B-4033-890E-005AD313F8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munity Medicin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ving towar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ngitudinal Curriculu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181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ita Kalra 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ly 9, 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8892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30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90720" y="-68580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960480" y="-70488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ous Curriculu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 to 2009-2010 academic year: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2 week blo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9-2010 academic yea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Continued 2 week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b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w for 2010-2011 Academic Yea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1: 2 half days on BM, Ortho, and 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3:  Track E, MOP, Jeopardy with 2 half days 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the Survey Says…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Group Based Project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Continue with Exposure to Public Health System/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3 Main Groups Establish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MC/Wellness/Lifestyle Chan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Health: Adolescent Sexual Heal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rea School Outr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uture of C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my current pro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Global Health Based Projec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10:54Z</dcterms:created>
  <dc:creator>skalra</dc:creator>
  <dc:description/>
  <dc:language>en-US</dc:language>
  <cp:lastModifiedBy>skalra</cp:lastModifiedBy>
  <dcterms:modified xsi:type="dcterms:W3CDTF">2010-07-09T06:29:10Z</dcterms:modified>
  <cp:revision>6</cp:revision>
  <dc:subject/>
  <dc:title>Slide 1</dc:title>
</cp:coreProperties>
</file>